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DE0-4EF0-4A2E-91FB-D4C772A0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E4D-3556-4209-81D6-E0A512E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93F-0815-4BA2-BDA4-8A0A528D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EC8-7F99-4DC0-A996-E61925A0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CF1-8382-4848-97A1-BF1CCC7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5B7-7D32-428D-8A54-DDBD639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A50-37F4-430C-985E-28E19C3D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BDC-787C-4CE1-8E87-E15498A5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93B-3EB0-4DAF-B10F-6A1A0F6D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FB2-1F39-49C3-BE1D-D5917AC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D15-E4B8-494C-B2D1-51FC86D8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40A-AB30-4C35-A05A-7073746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5552-3173-4EB0-929C-1A341C7F4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h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53B-8312-4EE0-AF33-38E2FF771A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of 94 Competitive Retailers reported numbers by the due date for February (03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of 18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pril RMS (March Reports) are due by April 4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EDC-405A-48CA-A70B-837FB19C9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447920"/>
          <a:ext cx="8305560" cy="449532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FED-A778-4A26-9915-B9CC22682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457840" cy="457164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1F4-38A1-4AF9-AE6E-F163130CC3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447920"/>
          <a:ext cx="8457840" cy="449532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DC1-03B9-41DE-9BDA-A4FE955D3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447920"/>
          <a:ext cx="8457840" cy="464760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3D2-6BDC-47E7-9EC7-76368A4F19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371600"/>
          <a:ext cx="8381880" cy="472392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35C-BAB7-4900-B5B9-9F29B7755C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457840" cy="472392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672-A689-47A4-9A01-78D30C475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03-03T17:23:23Z</dcterms:modified>
  <cp:revision>287</cp:revision>
  <dc:subject/>
  <dc:title>PowerPoint Presentation</dc:title>
</cp:coreProperties>
</file>